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268-11BB-455B-AFFC-71ED0C45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F2E-51BC-45E2-AB7A-6EE2AD8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A2B-4CEB-4751-A4E8-2AC07AF4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706-76E8-4B96-85AC-B87D7C4A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2D7-4689-42AE-8A9A-27AED72E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F7C6-2E63-49EF-ADE7-7E2B6D2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4905-648B-4BF7-B449-EACD9FB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ECE-12AC-4A88-B205-53759F5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74D-6161-422C-841B-AFD860D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5F5-7441-4199-BA08-294AEF96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8A1-3CAE-4B00-A258-9FD34FE1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D3D-76D3-4AA4-93B0-E902403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9C16-5D32-44ED-920D-8D9DBEA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E8B-EA1E-4E70-85CF-FA17CAD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87EB-D9A1-46A4-833A-0319E20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338-337A-4630-910C-300949E5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FBA8-5E0E-4B7D-89BD-8C4A4047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96A-8B58-4687-AD84-8A8417E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8D4-CD1F-44F1-8A4B-30BD763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EBA-EE7A-4738-AFF1-A8A36FB5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DFC-6390-4933-837E-3C701B3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FBD-2677-4D18-BE80-6205B59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03B-9E34-4C62-9DE9-6CE0ACF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B9F-DA31-4014-B653-5436E2E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C80B-6DE6-4E42-ACA6-7F2CF1FC8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9E73-4B21-4A2C-8BEE-59CD8D068C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Self Learning Standardisation Sess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2 - Scare tact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are Tact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fear in people as evidence to support a claim.  Makes you believe you are doing something to prevent a negative outc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ight make you feel scared and rea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ight shock / surprise you into reac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care Tactic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540240" cy="60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2 - Traditional Wisd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Wisd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the logic that the way things used to be is better than they are now, ignoring any problems of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makes you think about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mage is something traditional from a cul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makes you feel like the past is better than 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Wisdom exa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Content Placeholder 4" descr="traditional wisdom.JPG"/>
          <p:cNvPicPr/>
          <p:nvPr/>
        </p:nvPicPr>
        <p:blipFill>
          <a:blip r:embed="rId1"/>
          <a:srcRect l="-14134" t="0" r="-14134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alkthrough of assessment for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5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ill be assessed on the falla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e run in Week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example - Similar to the assessment for a clear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ims and objectives revis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allacies you will be teaching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efinition and key features of   each fall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through of assessment for 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ims and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allacies you will be teaching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efinition and key features of each fall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through of assessment for Wee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lac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rror in reasoning (Dow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-3 will teach 4 fallacies (2 per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 Dilem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re tac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1 - False Dilem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se Dilem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s the possible choices to avoid consideration of another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fairly presented too few choices, which implies that a choice must be made among this short menu of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eems like there are only two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choice is the product being so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lse Dilemma - Exa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Content Placeholder 3" descr="always win.jpg"/>
          <p:cNvPicPr/>
          <p:nvPr/>
        </p:nvPicPr>
        <p:blipFill>
          <a:blip r:embed="rId1"/>
          <a:stretch/>
        </p:blipFill>
        <p:spPr>
          <a:xfrm>
            <a:off x="1952640" y="1557360"/>
            <a:ext cx="5564160" cy="5095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1979640" y="5899320"/>
            <a:ext cx="554508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ntique Olive Compact"/>
                <a:ea typeface="ＭＳ Ｐゴシック"/>
              </a:rPr>
              <a:t>Don’t be a 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e1"/>
                </a:solidFill>
                <a:latin typeface="Antique Olive Compact"/>
                <a:ea typeface="ＭＳ Ｐゴシック"/>
              </a:rPr>
              <a:t>BE A WINNER WITH GATOR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ek 1 - Bandwag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ndwag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the impression that everybody is doing it and so should you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eems like everyone is doing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feel like you should do it to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dvert uses words like "most", "all", "everybody.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andwagon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1120" y="404640"/>
            <a:ext cx="4592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54:02Z</dcterms:created>
  <dc:creator>SA</dc:creator>
  <dc:description/>
  <dc:language>en-US</dc:language>
  <cp:lastModifiedBy>SA</cp:lastModifiedBy>
  <dcterms:modified xsi:type="dcterms:W3CDTF">2011-02-16T11:40:54Z</dcterms:modified>
  <cp:revision>7</cp:revision>
  <dc:subject/>
  <dc:title>Self Learning Standardisation Sesson</dc:title>
</cp:coreProperties>
</file>